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50092"/>
        <c:axId val="11009792"/>
      </c:barChart>
      <c:catAx>
        <c:axId val="39050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9792"/>
        <c:crosses val="autoZero"/>
        <c:auto val="1"/>
        <c:lblAlgn val="ctr"/>
        <c:lblOffset val="100"/>
        <c:noMultiLvlLbl val="0"/>
      </c:catAx>
      <c:valAx>
        <c:axId val="11009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50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DE8-F756-45EC-AE52-9A0D63B4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B36-5477-4F32-A45C-586DD6A8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FE9-F8B1-4B22-BECC-3CE0AFB9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877-C730-4C16-8441-4D83CE94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E5F-2561-4D1D-8B6A-5EA22F61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C1D-7F99-4602-B664-2B629148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6A0-5BAF-4F19-8A39-4E0889D7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D02-494D-4725-8EF6-57FF2DC5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013-9933-4532-A9B8-329A6F4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C5B-C1E6-4D06-A3F9-58029A33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FE1-1F14-47E2-898D-EBA255EF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CEE-E15B-4D7F-BF1F-DB11BB3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C7046-29A7-4066-9894-1F5581AF8B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