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41197"/>
        <c:axId val="33372540"/>
      </c:barChart>
      <c:catAx>
        <c:axId val="83541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72540"/>
        <c:crosses val="autoZero"/>
        <c:auto val="1"/>
        <c:lblAlgn val="ctr"/>
        <c:lblOffset val="100"/>
        <c:noMultiLvlLbl val="0"/>
      </c:catAx>
      <c:valAx>
        <c:axId val="33372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41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CC5-60B2-4DDF-AC29-150BDB6B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5CD-16D7-4275-9CE4-6E6D9668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5BC-FCEB-4DD0-A662-5A024942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6AE-E60A-4507-A262-9BAEAC57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4DF-CAD2-4EB0-B736-C68A41EE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1CB-3A06-4126-99F9-C4EA6B3D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203-EA58-4BAF-A888-D30EBA62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361-79DD-4CE4-ACC8-B706E193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6C8-BA2E-4313-BD8D-E632768C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719-9012-47E9-A7A5-86149FF9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D51-C001-4D14-896E-C6242EAE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BAF-AE42-4DCA-958D-406752F8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1CBFC-5DA0-4ACC-922D-CD6B39C7CF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