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1353539"/>
        <c:axId val="64012295"/>
      </c:barChart>
      <c:catAx>
        <c:axId val="7135353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4012295"/>
        <c:crosses val="autoZero"/>
        <c:auto val="1"/>
        <c:lblAlgn val="ctr"/>
        <c:lblOffset val="100"/>
        <c:noMultiLvlLbl val="0"/>
      </c:catAx>
      <c:valAx>
        <c:axId val="6401229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135353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8A2B3-7F9A-4F23-B00C-CBB9F26AC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41F66-C01D-433A-A138-3607B3F79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82592-5EBF-4B46-BD93-E3183DD5A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FBBC5-4E16-4242-A0C8-771FAC8E7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C4D1C-CEE5-429D-95F7-4C7254EE5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C3795-CDDE-4F1B-93BE-97B3EA5DF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2A08D-C4F7-48EF-8EBA-72F6E6D1B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78615-6C69-477D-AFD4-669AC363E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6ACDF-7C4D-48FC-8E1F-F836BC6B0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7F1D1-C3C0-43A2-8D4B-F21669762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A70B4-2378-41D9-AAAB-BAE7994BC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AC43C-C67D-4778-B3BD-5E5745FBB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29F5D3-9CDC-4A89-BF9B-1858FDBFCE1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