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76865"/>
        <c:axId val="48574667"/>
      </c:barChart>
      <c:catAx>
        <c:axId val="82276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74667"/>
        <c:crosses val="autoZero"/>
        <c:auto val="1"/>
        <c:lblAlgn val="ctr"/>
        <c:lblOffset val="100"/>
        <c:noMultiLvlLbl val="0"/>
      </c:catAx>
      <c:valAx>
        <c:axId val="48574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76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486-AFA6-41C3-9017-DEE82EB0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B00-59DD-4A7D-B329-8BC73F51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893-188F-4A52-A707-8FB22C2B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0A3-4129-4112-B654-89BAD7D2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81B-FD1A-4E1F-B49E-EA29E8A7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530-C389-4CA9-B1F1-43F43FCD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BEB-711A-473E-8581-6BFA9AAA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B22-6D83-41CD-B9C8-D68A167C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8C3-13E5-4BCA-BDD3-444AE243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14B-7948-46F1-9962-0617DE28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9AC-3AE9-4F47-8698-F39DB2FB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CFA-CC3C-4CA4-B9A1-BD9E1FC9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3A025-6B3F-48C6-BC00-2F868460F8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