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870978"/>
        <c:axId val="75051990"/>
      </c:barChart>
      <c:catAx>
        <c:axId val="558709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51990"/>
        <c:crosses val="autoZero"/>
        <c:auto val="1"/>
        <c:lblAlgn val="ctr"/>
        <c:lblOffset val="100"/>
        <c:noMultiLvlLbl val="0"/>
      </c:catAx>
      <c:valAx>
        <c:axId val="750519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709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14C8-6A6D-403E-BC07-23130C0D7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EDB8-C0EE-4057-8307-5D4C7BE0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BCBF-5F65-4CFC-9D36-CA4D386F2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71FB-49DB-416D-983E-19C3ABC5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CDB5-D2FF-44B3-96FE-54E2BEC0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8FAE-981C-47CD-9F7C-1E555331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9C82-226C-495B-9688-E6F38D6A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6288-F7B5-4EC8-A292-1DDA0BEA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6C26-CA60-4A98-A421-5CB0B112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BE76-9F15-49A7-BD95-A385CAEA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C00E-1ABD-4535-8150-33945F47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8588-49C0-44DE-87FE-BF8D20AC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59A289-DAF2-4732-B121-F93C0F14AC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