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55961"/>
        <c:axId val="32138110"/>
      </c:barChart>
      <c:catAx>
        <c:axId val="94955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38110"/>
        <c:crosses val="autoZero"/>
        <c:auto val="1"/>
        <c:lblAlgn val="ctr"/>
        <c:lblOffset val="100"/>
        <c:noMultiLvlLbl val="0"/>
      </c:catAx>
      <c:valAx>
        <c:axId val="32138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55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43F-5132-4C63-B265-B651A05A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595-3CEB-493C-BF3C-019FC434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2D3-5122-47DB-AEA6-0502550E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05E-8149-4655-9B35-8A9FE3A0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8B9-FFB9-48E5-AD68-EEA0FEB0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E8C-FA7C-48D9-BC2E-8DD20D72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9DA-927C-440B-9C8C-B4163AA7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FD5-FF9C-48F5-81EC-033471A8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95B-178E-4DE0-86AF-58F3E773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910-B2FF-4002-925C-F63C7A40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093-C1ED-41D4-9BDF-1593AED1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38C-638C-48E7-A5BD-45F6DA3D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B39F8-EE28-422B-ADB9-9E64F7B6B9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