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77409"/>
        <c:axId val="62920525"/>
      </c:barChart>
      <c:catAx>
        <c:axId val="37977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20525"/>
        <c:crosses val="autoZero"/>
        <c:auto val="1"/>
        <c:lblAlgn val="ctr"/>
        <c:lblOffset val="100"/>
        <c:noMultiLvlLbl val="0"/>
      </c:catAx>
      <c:valAx>
        <c:axId val="62920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77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C90-9C43-4E03-9A7B-F7CDCFEB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16F-B40C-4A17-AEA6-CB4B8012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5C7-1C90-4139-913B-F78BFE8D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B41-BD32-4826-9AB4-57BBE484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A04-C26A-4C0A-AE81-CD6FCC5A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B45-8C97-431B-985D-33D38F45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BB6-F918-4B70-9931-D1431940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59F-3EDB-4C23-84C0-3FA350DD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2C4-FB9B-4BCB-9EFE-4B85523F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ACE-5E77-456E-A180-E98B1D26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A69-CB1C-4B99-905B-2057C5EF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E66-783E-41EE-8E6C-1824BCF1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A6562-C692-452D-85C9-292C78F138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