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76095"/>
        <c:axId val="49168787"/>
      </c:barChart>
      <c:catAx>
        <c:axId val="26576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68787"/>
        <c:crosses val="autoZero"/>
        <c:auto val="1"/>
        <c:lblAlgn val="ctr"/>
        <c:lblOffset val="100"/>
        <c:noMultiLvlLbl val="0"/>
      </c:catAx>
      <c:valAx>
        <c:axId val="49168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76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339-4733-4CCC-B09A-091341A1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C48-5AAD-480F-A89F-217594E0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7FD-B9BE-47A8-A756-8C533FF2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35C-7E07-48C0-A976-70EA605A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0531-F20E-45A0-9A41-A18FFF9E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F729-B3CB-4292-982D-56B0A658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A11-8519-4038-875C-36776CC1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941-1CF8-45DC-BB78-AEB2DBB7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1EEA-BF77-47C0-A2C5-00E08A52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3B8-AEDE-445E-B108-1064A9B9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2EFE-D90D-4C1D-B87B-45E9396B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5C1-10DC-4E80-B2A4-0C118518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D9C76-7B55-4818-9412-7428336B65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