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1163141"/>
        <c:axId val="71904523"/>
      </c:barChart>
      <c:catAx>
        <c:axId val="5116314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904523"/>
        <c:crosses val="autoZero"/>
        <c:auto val="1"/>
        <c:lblAlgn val="ctr"/>
        <c:lblOffset val="100"/>
        <c:noMultiLvlLbl val="0"/>
      </c:catAx>
      <c:valAx>
        <c:axId val="7190452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116314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91863-550B-433B-81DD-086A91E13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013AC-5B37-4262-AE52-FEDD5998A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15125-1F22-4163-9576-C19D02F5E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ECC7A-4FE4-4A17-B52C-DED26475C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BFFA3-7BD4-4896-9654-EBD8F1E14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0DECC-C3E3-48BD-B960-34DE18EB8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95115-BA96-4F1C-A824-8C964AF0E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7B7FA-0B50-402D-B863-229EE28BA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7F7B2-AE39-413F-9536-10BF067F2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EBECC-A706-4897-AAD1-A9A9F1190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5B964-A1AE-48AF-A023-E1E54DA6D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05EB9-7FDE-4C0B-BBFB-2003A2C30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C181EB-7765-499F-B14F-C526BA897CA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