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42753"/>
        <c:axId val="89368412"/>
      </c:barChart>
      <c:catAx>
        <c:axId val="86242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8412"/>
        <c:crosses val="autoZero"/>
        <c:auto val="1"/>
        <c:lblAlgn val="ctr"/>
        <c:lblOffset val="100"/>
        <c:noMultiLvlLbl val="0"/>
      </c:catAx>
      <c:valAx>
        <c:axId val="89368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2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22A-6183-431D-A393-D7F95DB6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594-0741-48C1-9507-5783F3C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48C-FD4D-4978-9A8F-03B25911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E5E-75BF-4D6F-85EA-250C1A7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A5A-1074-4F90-A81F-D743AAB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62B-D907-4852-B280-0382254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4F2-6311-4F8B-9EB4-89AA7D4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40-F2D6-4495-83B1-20FB4A2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E4E-EB4D-4B47-AC70-766ACE63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5CB-5616-4C36-B35F-4AD5FC5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EB7-6DD2-47D3-A61E-0FDCCD4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C86-978B-4254-8FF3-61FF5E1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3B588-AEC4-4618-99BA-950EA8A3F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