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03583"/>
        <c:axId val="20687091"/>
      </c:barChart>
      <c:catAx>
        <c:axId val="73303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87091"/>
        <c:crosses val="autoZero"/>
        <c:auto val="1"/>
        <c:lblAlgn val="ctr"/>
        <c:lblOffset val="100"/>
        <c:noMultiLvlLbl val="0"/>
      </c:catAx>
      <c:valAx>
        <c:axId val="20687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03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764-F347-4E6E-9F15-8D72D945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F27-10C2-4CE8-803E-AF61480B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B26-96B8-412F-8CDE-723E2933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DB6-02BC-4F45-BBA9-DD375C73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DD0-894F-405B-9EB8-ED71654E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806-D0C4-4CD7-96CA-4CF71C14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2AD-DC1C-426F-91BD-B760180B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2C6-B3B9-42A5-AAEE-B612513A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5FB-38F6-4394-8027-8E0CFF90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987-F0A9-46B9-9897-B79D2101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E6B-375B-4DE2-A525-BD790ED8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699-7AB3-4FF6-829D-CB90EDD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DB5EC-2880-4BE9-9DEE-DC814C0CAF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