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70545"/>
        <c:axId val="69347561"/>
      </c:barChart>
      <c:catAx>
        <c:axId val="57970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47561"/>
        <c:crosses val="autoZero"/>
        <c:auto val="1"/>
        <c:lblAlgn val="ctr"/>
        <c:lblOffset val="100"/>
        <c:noMultiLvlLbl val="0"/>
      </c:catAx>
      <c:valAx>
        <c:axId val="69347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0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12C-713E-4790-865F-774C6F6E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760-677B-46EA-9389-F1C93DB6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A55-84B8-4B49-8219-BEC30765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85D-23B2-48DA-8AF6-8C57621A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A25-7820-431C-9500-23308BD9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570-6953-42C7-805B-D4DD4915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434-ABE1-472B-88EA-37BF83A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432-D043-4CF2-BDFE-FCB0AFE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FC7-25B4-45AA-ACC8-7267745C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52F-58B6-4C29-AC9F-8F7230B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20A-1F3D-49E7-BD81-41567C2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B69-3CDE-4058-92F0-F1FA067C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B938B-D160-4D1B-9C70-DE371F447F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