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48761"/>
        <c:axId val="61452466"/>
      </c:barChart>
      <c:catAx>
        <c:axId val="95448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52466"/>
        <c:crosses val="autoZero"/>
        <c:auto val="1"/>
        <c:lblAlgn val="ctr"/>
        <c:lblOffset val="100"/>
        <c:noMultiLvlLbl val="0"/>
      </c:catAx>
      <c:valAx>
        <c:axId val="61452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48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A50-74D4-4F36-B5D0-42D05B4D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C82-5CFA-42A5-AFD1-68BB968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7D9-2375-40C0-9F56-31C4CB9C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8BB-E205-4CDE-9897-ED41BAD6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941-8A46-4B12-B979-1E9810C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5DF-850D-4625-862F-65A8DBC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B77-8C2B-4552-9087-79194ECC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000-D383-4D47-9A87-72CE2B42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82E-73DA-44ED-9810-A17F04B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860-6CC5-45B4-B491-3759309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224-720E-4599-9541-CB3F2C7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A94-208F-42E5-ABF5-E8F95B4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D9743-97A5-44E1-9BD1-02F146AB2A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