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43013"/>
        <c:axId val="70404013"/>
      </c:barChart>
      <c:catAx>
        <c:axId val="60143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04013"/>
        <c:crosses val="autoZero"/>
        <c:auto val="1"/>
        <c:lblAlgn val="ctr"/>
        <c:lblOffset val="100"/>
        <c:noMultiLvlLbl val="0"/>
      </c:catAx>
      <c:valAx>
        <c:axId val="70404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43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21E-2449-488A-A2C3-7991CD89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A4E-95F4-4EDC-AE79-1C0B212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844-9DA9-4B57-ADE6-6971183C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DBA-F50A-4849-BE47-FFF8B352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458-9100-403A-9FBE-4C4FD7E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BA5-F03A-414D-9811-A92DE209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3AA-1079-4725-B631-1E0C428A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37F-AEEC-4DD3-B496-9FD418BF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C12-6601-4149-B808-7400DBD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4B4-C581-4DA8-8A53-69D65AAC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78F-67D2-4E23-B3EA-3A7D83C1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34B-DF3B-40D3-8F97-C41614DE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70079-333C-424E-90C1-42E8CF6ED1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