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380198"/>
        <c:axId val="88518525"/>
      </c:barChart>
      <c:catAx>
        <c:axId val="483801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518525"/>
        <c:crosses val="autoZero"/>
        <c:auto val="1"/>
        <c:lblAlgn val="ctr"/>
        <c:lblOffset val="100"/>
        <c:noMultiLvlLbl val="0"/>
      </c:catAx>
      <c:valAx>
        <c:axId val="885185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3801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7783-30E0-4D25-B39C-585FD35A5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9CB1-52A7-4611-9CFC-60E51A43E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2408-5AA3-4515-B35A-1EAFB1A48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3713-26D0-4691-8C00-8C6155E4E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92B5-7CA2-4E96-97B8-0C893E6E5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B1CE-062F-4119-B487-13F39BCB4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6D20-270D-4D59-B851-DDFAE573E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1827-B8D9-48AA-821D-DF65B35AF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26E5-6C74-4056-8842-E9C8304B9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DEFA-CDE4-422F-9536-8EA5C77D8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BEB2-12BF-40E3-83DF-E1B81F07F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F681-AFB3-458A-AA4E-5D94E75B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EF0581-BEDE-4C83-B9FD-66FA97BCF63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