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09387"/>
        <c:axId val="88884645"/>
      </c:barChart>
      <c:catAx>
        <c:axId val="58309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84645"/>
        <c:crosses val="autoZero"/>
        <c:auto val="1"/>
        <c:lblAlgn val="ctr"/>
        <c:lblOffset val="100"/>
        <c:noMultiLvlLbl val="0"/>
      </c:catAx>
      <c:valAx>
        <c:axId val="88884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9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61-C1C9-40B2-BB68-DB249DD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168-7C90-4AE8-8FFD-D56BDB66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771-4A5B-400C-BB6C-388AAF90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01C-D694-4BA8-A0C6-9277D0DE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03B-1DB1-417B-BB79-9DC70F1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43D-30F7-476C-A3F6-571165D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05F-9C37-4F36-A5FD-5481E0A3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B8A-202B-4DDF-B97C-7334875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712-7428-4643-8CDE-769FE779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F52-8F32-4DD2-A390-C2CC1BB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511-781D-42DB-B7B6-7EA4033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AEC-49C8-4A91-AEF7-FB6B926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19080-7F14-4F26-8C27-77633FFA98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