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84123"/>
        <c:axId val="57563297"/>
      </c:barChart>
      <c:catAx>
        <c:axId val="65284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63297"/>
        <c:crosses val="autoZero"/>
        <c:auto val="1"/>
        <c:lblAlgn val="ctr"/>
        <c:lblOffset val="100"/>
        <c:noMultiLvlLbl val="0"/>
      </c:catAx>
      <c:valAx>
        <c:axId val="57563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84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4D1-9C3B-4653-9177-3085A607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2B1-9D99-4F45-BE1C-44A1A39A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D85-8FE1-4800-A852-008FA6DB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838-8107-4E45-9F66-1398A553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5E5-5998-45FF-BB56-F9B65EF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800-10B2-4EEC-8D44-B3F30F57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7D7-324D-4DDF-B5DC-90C0271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223-2FA1-43B9-AC30-46D9AA65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1AE-09CE-4968-90DD-39006FC3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D03-A8AA-4C86-831F-EC2A705F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786-80CE-4E4D-A633-B8F7E164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2DD-358E-45CB-9E68-ADE7ADF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31467-27EE-4792-83C8-582CD5D373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