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000" y="1371600"/>
            <a:ext cx="7974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 and S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able Heaps with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ds used around blocks to detect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 and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s must be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reads can’t context switch during transactions, RDS can handle abort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when transaction ab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y can, the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ake_f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_f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used, and RDS creates an internal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coroutine safe (not preemptive sa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 for S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VM segment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d maintains load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un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gment may have multipl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anchoring segment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ocating pointer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create_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name, file, options; also specify regions (and locations of regions, if aprop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once at initialization of segments (i.e. in rdsinit a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load_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 a previously created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s each region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location for region is non-zero, region is mapped to tha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at start of run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has one fixed size header region, which contains load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ples of offset, length, and vmaddr for each reg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region definition descriptor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m_segment.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offset_t  offset;   /* region's offset in segmen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length_t  length;   /* region length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         *vmaddr;  /* mapping address for reg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region_def_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locations are specified, they are specified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pick someplace high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 duplicates page allocation and freeing cod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map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register_p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unregister_p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orted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map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 for 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able Dynamic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coverabl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the context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mallo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llocates a block of the requeste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frees previously allocated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fake_f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do_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free blocks in a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ke_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ces freed block on intentions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lly frees blocks, once transaction has 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init_he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nitialize a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load_he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load a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care of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vm_load_seg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start_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start_he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nitializes RDS for a run of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by app if app manages the region mapping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80880" y="304920"/>
            <a:ext cx="773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676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zap_he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nitialize an RVM segment as a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_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at it actually creates RVM region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s_pre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application to optimize for block sizes which are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Eric Tilton</cp:lastModifiedBy>
  <cp:revision>0</cp:revision>
  <dc:subject/>
  <dc:title>RDS and SEG</dc:title>
</cp:coreProperties>
</file>