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E00EE-3352-4471-8CA1-2F96D80A3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93031-8885-4F92-9EB3-D01DAE253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CBB96-AFF2-41B0-81DF-DD8E4A476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2F992-1718-4B99-BA52-D9E04850A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A5115-0BC2-4371-B45F-C50DD1BEF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2A95F-47EB-4563-8F15-E16CE177B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79EBE-359C-4991-AB38-0C59E876F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4E8F1-546A-4346-A1E0-F4FFB8CF8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F2CB8-2A67-4D5B-9FBF-601261F83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F0E06-701A-4410-B33A-E4EEA792A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63855-953C-40C1-B95F-599332D9F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C5A74-42DB-4B3E-8BA0-10D311726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4DF14-76EC-4BE7-8C0E-62681A3F8636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flowChartPrepa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p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flowChartManualIn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flowChartManualOpe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flowChartOffpage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ff-page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flowChartPunchedCar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lowChartPunched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unched 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umming J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flowChar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flowChartCollat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l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Alternat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flowChartSor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flowChartExtra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Ex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flowChartMer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e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tore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prstGeom prst="flowChartMagnetic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equential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gnetic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rect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defined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flowChartInternal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Internal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ulti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Termin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03:09Z</dcterms:created>
  <dc:creator>tb121644</dc:creator>
  <dc:description/>
  <dc:language>en-US</dc:language>
  <cp:lastModifiedBy>tb121644</cp:lastModifiedBy>
  <dcterms:modified xsi:type="dcterms:W3CDTF">2005-05-25T11:15:34Z</dcterms:modified>
  <cp:revision>2</cp:revision>
  <dc:subject/>
  <dc:title>Slide 1</dc:title>
</cp:coreProperties>
</file>