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BA82-3916-4F6E-BCE5-8EB8AA17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3C10-310D-4247-9011-A11CA3A2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10630-8CF3-4D82-9615-3705E18E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20790-C619-431C-911F-815DD8FC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87AD9-B3B1-4A49-BB72-17538EC1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D5930-F812-4A3B-9BD1-B62DCF2D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58DD0-5BB2-44E9-8842-3E893029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25BAF-5147-4B6E-B71F-1D0CEFE6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2CCC8-49B0-4BDC-BED7-3A8B85EC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8FFF7-992D-4369-8164-B581B4BA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7AE50-FFA1-4983-8435-FC1BE1B2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81D707-8A19-43B6-B3AF-1F584A59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34AF-EE38-4D9F-9C29-07258A9D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18B413-F2E1-4BBF-B3EF-894AE8DE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73B2E8-AA16-4DEC-A874-C841963E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E52607-BD4A-40E4-95A5-BF8AC2E8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113B2E-7BBA-4F88-8F9B-97DDC2AC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B9E875-EA00-42EF-B9C7-12452A90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821337-6022-47EC-8F96-3C776513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26B496-E24D-47DC-B5DE-C2D35043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4DBADA-5B6A-4395-A620-43848469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7EFB69-38DB-4F3D-9881-0CC70E2B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91D902-50A7-48B0-944C-22B7A4C5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2D82-F518-4474-90E3-70702705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A952A6-58D3-4697-956B-658A8F1A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4FF0A-DB4E-4746-9FE4-383CB2CE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F5582-E70A-4700-AE34-58F84849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53572-B174-44AD-AED7-3DD9BC33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31D4D-65BF-47B9-BEE1-5DF9CC7D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C67E1-68FE-406C-9E6A-9CD91CBE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6184D-9287-4236-B73E-4AD65C34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F44C1-08F0-425D-8486-E4998CD8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DD401-FBAA-4D02-AF6B-A8BDDF8F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5DED8-6250-494B-8EC6-827F85CE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1D98-69DC-461B-9765-43369616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BBB25-8257-417C-AF30-9E89447A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F86C7-E6EE-4319-82D4-5C7579EE7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08DEA-DF7B-417A-A0F4-D1935A31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2053B-E439-444C-818B-8A6E96F5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6D3A2-F038-421E-9313-80C77996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3DDC2-8602-46AC-9185-E3397A6C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CB834-E430-47D4-AE9F-6660752D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0FDEE-253E-43BD-8CB0-0B1300FC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566CA-73CB-4FAC-92DD-0E0B7CA9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48ABE-9E41-4273-94AE-6A811D53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5AD1-5896-4059-8047-3F4269EA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AD25C-579C-4657-8BEF-3A1FAB1C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8A2DE-8BFF-48B8-9250-39B2FA70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F08C7-AC28-4338-AD09-13A10D1D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D0718-1FFB-4572-8A3B-D41A4B1F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95533-6176-4780-83FE-2F5CEEB9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8673-DEAC-4C44-9146-5D7736FF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3674-1C38-453A-9902-06BCEDF2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9768-8B2C-49A0-9DFE-C10D07A3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6418-FB37-4955-9034-D8C46B64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55DB-AC19-46B0-98D5-E09820DF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C63B-BE4D-42BA-9459-C1823CE2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FCEB-D154-4B74-A7A6-85C0C9FB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3868-A826-4290-9D60-A1E87315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1C1D-790C-4D88-BB9B-B2F95056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F942-BF3B-42FF-A449-C28F97F9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10B0-6DA0-4237-A229-B71667CD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EE9B6-0462-4A7F-AE57-9BC52E84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5D83D-8545-4BB2-8CAB-25C7805C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2F359-0E5B-4CC7-90BF-4E240BD9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9A9B9-FB13-435A-9D60-6705DAA9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42FDF-F73B-4E9B-8396-9CB17E96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A736-9516-4D85-AEF6-8BDC2D2E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3EC46-B21D-410A-B1D1-0983C039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3FA5D-599C-4595-B0CC-6D935DD2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1B30E-9664-4BE0-AF2F-93881EB4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E3C01-7362-40E2-A69B-7B9835CA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4CC80-D5D7-4EA1-99CF-68F981A3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861D1-9B62-4B76-BD8A-0CD6B50F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9A179-825E-4AB3-8E31-F086D4B9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B3266-7F27-4A11-BB7D-E8FFB4A3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5E0EF-73BE-4460-B015-5B42A098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5236D-BA5B-4D65-801B-DAE320FF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4E34-C160-461C-8056-629BE329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05131-C82B-423F-A74D-4E9A987D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8EB90-400C-4ED3-9190-93F8C2B0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784E5-E807-495F-98CD-23E998FF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AF88A-2B6A-4E6E-94C3-32366C0A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EE3CA-D806-43FF-ACDB-7198DF87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F409C-1714-49A9-B1C8-F5B13FEA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6AE3E-06A5-42DF-8330-E565652F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95028-853B-45F1-B6F7-11B1DD69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9014A-1756-4884-986A-D296E91D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58EEDA-4D82-4597-96FA-398ADDB5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F853-4045-4890-8F20-968D2C2B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7DE17F-C9CF-402D-95AC-45ADB9C6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A33D55-4CEE-4937-BA96-C5E71318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35CC0D-B1C7-480F-9095-5E6B503C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1EEA08-481A-4795-B83C-1EA05134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76C433-8BFF-4954-80B7-B82A358C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96B13B-1196-40EC-AC0D-F8BF3CCE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D73889-6B31-474C-833B-E7294F45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43E66A-7952-40F3-9A56-58BAA437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DA1028-06FD-49C6-AE88-CD887A8D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5BBEA0-D07B-4DA6-89EA-B3D04A41E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A681-175C-4E63-9F63-185D53ED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922BA1-C208-42CC-B518-F92C0C16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62D5E-21E4-41A5-A675-FF41A582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AFDD5-F89E-43FB-AF03-7F48CC7F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AF44B-346C-401F-B2E3-7F904F12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CE212-02A2-4B79-8FC6-7A600682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685FB-9209-4448-ABEA-330EB376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D1E7C-A9F5-4BE5-A648-D9732DF3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91D62-4D44-4561-9CDF-A0F3C448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EE6F6-4BF4-471A-A6DA-EB314CD7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562C3-0BF4-46D9-83F5-CC2CB013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4E78-3B0E-40FF-BB9E-E5E780B4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D4478-AC8B-45EF-8024-D38E6448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F7BA8-3FB7-4992-A1ED-BCC5EAB5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43381-0321-4249-810B-A8FF059C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63707-8C38-436B-B12F-BF2DC9C9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3A9D7-73C2-4395-9365-6CBD1556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3C780-374D-4910-80A9-054A88F0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8839F-0A7D-4F87-8D2F-8A85977A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5ACCF-AD66-4DAD-A5FC-7BB50958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6F02D-7F7F-4BEC-8C20-E7AC5BD9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03362-05D1-4BB0-B164-3134DBEF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A8A-20CB-4945-8D7A-8469AA01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0E2D9-8FC2-47E3-B2CD-A72A650A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FEB73-4247-450A-B085-54012CA9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F5116-10A5-4027-8849-7EF082C5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7C569-A295-4F9E-8A02-50326CA7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C7248-33C2-4C94-B1C5-DE44F879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6F0CB-35E5-47A8-A568-99218306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ED7B7-4FC8-4182-9A7F-BE048D6E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BF03A-3919-4947-A3B9-20844ABA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AF7CB-42EE-4935-A60D-B0F0CF18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9408E-BCCC-4D97-834B-08A8448B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B6DE-455A-4286-B011-EA32D168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F6116-F365-42BA-A295-F9FF40BD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FCA59-2F8C-4036-8E0B-88EC509E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ABE89-7A60-4070-B6D8-36E44113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3D8B2-E6B2-4267-B324-C1379BE6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E5E91-14A6-45B9-AF42-F684110B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35DB5-9CB1-4989-B497-B0A8657B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88127-0429-40BC-9CD0-D3007C92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7B633-DFA7-4A39-A6D1-098B3DDB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180A9-274F-4B65-9678-2504A097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F257B-B1C9-445C-AB7A-D645A332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A6C6-2993-409C-8AC6-72547A109D5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C960-52A6-4B3E-8287-3A44E8C13A8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FC12-7471-4F76-A1F0-9334F18E807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CD05-6E5E-411A-ACD8-428EEF3BB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FC9F-3B1A-484B-BDC4-46D1A1B4034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889B-7FD6-4678-83F9-5B5D9FD12FF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1038-C865-438A-9284-808C50636F1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6799-9CA2-41A1-9E70-00EEAABA409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46EA-E6E5-4641-96CD-688139F2E8C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2283-73C9-49A4-A551-A7DD002DCE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344B-33AE-4FA7-9365-A06AB3BB5FD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2F67-413F-4DE6-B75D-91B5E0A30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C176-D5CD-41EA-A7F0-33020484809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07A6-A6AA-4244-8E48-8F3E2232F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B427-77E2-4DE5-8191-12B57359018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C7D9-040D-4515-8570-86214849B83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707B-F85A-4EED-985F-CF22F299185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A194-C118-45BA-9062-4E4139E761A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5EB6-705B-40BF-97CF-7E3B824E249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72D6-1C5A-4C30-9707-FEB3E000B7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042B-C91E-4D4D-B54B-970450B531E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0987-EFD3-429D-B296-85219E13AEC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15BF-866E-46CF-B389-AFC2C4BDCDF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A6BC-7213-411F-BB88-49C608F11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8194-770E-4D63-A6F8-F2C8B9E3C8D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DE006-E0D8-4BEB-87EE-6C4211EDEA99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8F2B6-5A14-40EC-97B6-5A0BA04271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3B239AE1-A9D1-4EDB-83C3-6E96167A49CD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heel(3)" transition="out">
                                      <p:cBhvr additive="repl">
                                        <p:cTn id="129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F91C1-D94C-4232-91E8-AD3494BC555A}" type="slidenum">
              <a:t>3</a:t>
            </a:fld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F3C980-E85D-4297-8EAE-A07FD2A3C16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7B6A5D35-81CF-4D9C-BE35-A50B73445E64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7F421-BABA-4091-B2EB-8811344E26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E70FE397-8FD3-40CB-8BCE-A0C1AEEFA97B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94326-BEBF-4372-9294-EF920B8792A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3BE02287-2B8C-426A-827A-F11653FCD951}" type="datetime1">
              <a:rPr lang="en-US"/>
              <a:t>07/31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