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BA9-BBFB-48D5-969A-835917EB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AE0-155A-4952-A199-4AC2F00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43586-8C59-4F59-8B4F-E85C015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CD170-B694-4392-917D-12AE988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0DE90-A25D-4B17-AEC7-BCB62CA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C3DB-D33D-49F0-A72C-5EE13B7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4DA8-5B3C-4A7E-A5C6-28628FC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C5C0-7F07-4168-AFAA-55AAA90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3AD8D-5C88-42D4-B04D-835B5C84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02E0-3F2D-4529-AFA4-FA4258A6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77EDA-4BE8-4ED2-8F64-0146D6D0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D99B1-D622-4818-809D-5A5F6B36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421-1C7D-4133-8DCA-B1C8FA61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CCBB3-E925-40B2-9906-7AC5D06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E21E8-3AC0-4DF6-A9A8-00A6F0D1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9D0293-CB62-45CB-9463-53362CFF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FFF3C-209B-4491-9699-1FE2F889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C36D18-227C-4971-B6A5-9625B124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808F6-C796-4925-9C53-BEA5F31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F2AFFC-52B3-49FD-ABC2-D80438D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9598A5-ACE3-43DF-960B-5A397FC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63E50-7FA3-4328-844E-56C6777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848DF5-3DB0-4CCB-B907-59F2AA58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049-C39E-436E-AF40-145D451C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351C33-6468-49EE-BD78-F905DF8D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28B5-CCFA-408F-B6CB-E60AE8B2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AB241-1051-445B-9631-12C5C75A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714D5-331F-4477-BCB4-74FD6824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96B0-D131-436B-AB61-3FA6424F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4EB1-A893-4CB2-884B-2CA0ECAC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B4C9-2C6E-4049-96F1-BFA2001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828AF-42A7-4AA9-8865-DB9493D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8A552-0AF1-4ECE-8B44-6EA3F26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63520-9B34-4854-9D1B-0AFC8456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7BCB-1AEB-41B7-9CFE-77E00A9C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79C1B-864A-41DD-A4B7-8F4A9CC8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F706-18AB-4B51-80DB-5D45C32B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D1CF6-593B-4FBB-ADAD-D48A6F7E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C5529-A6DE-4DF7-8C1B-CC69D0CE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2939-1470-481D-8CC4-B1B6A07F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218F3-7A55-4AEA-89CA-1389D1E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3D3DF-C4F7-4B88-B0FD-1A2F1D99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E1E77-01BF-4681-9812-0FA6781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F4B60-A84F-4E9C-B4AC-4E85B6BE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5FEB-F42D-4AC7-8E02-DDEDA326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6517-3FC8-4C7B-B214-9C8296A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72370-0014-42BE-A514-B91E9C6A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4201-CA92-4764-ABAE-F88A5957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E21F4-719F-42BD-A0A6-F8061AE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6C747-3258-4F60-B27E-CFCDF54C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5F2E2-F8AF-476F-A291-CD3408EA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95F-ADE9-4866-A9BF-15845EB5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D35-997D-40DC-819B-E7FCDDC4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B26-207C-47B4-8179-54779280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E85-2C34-45D9-8C59-AF506D7F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2633-985F-4AB8-ACE1-C873792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715-698C-4232-83EF-D070D10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D29-1DB4-4089-A899-53659F5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516A-7AFB-451A-BAFC-9A51FE6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D91-F2E1-4F76-8DFC-B3B8EFFF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0A91-E2D6-4158-AE89-B1E136AF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E66-1E36-445F-B14A-13EBA0FE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9896-B053-430E-8057-B9E2A31B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0097-452C-4242-A2B8-4B08C91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226D-3A25-4F4C-841A-8127CEB8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EA02-97AB-49B3-9626-3A018C7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E60C-3612-4B50-9B99-847BFCA2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714-EBD5-467C-B88F-5E3FD2BC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DFB0-62EA-4644-B211-12EE426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605B-22CF-4D9E-9CFE-E674A6D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906A-9D9E-4E3C-9204-630A8E1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19E5-3C21-42FE-8BB3-44D0D51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BC02-FC22-4666-8190-E81DADB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C26F-BCC1-46D9-ADDB-3C75CC1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782D-40E2-4E9A-8C65-48D4B1E3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8EC6-CD7C-4B0A-ACBC-056B4652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41D8-D355-4F51-9E0F-D9E378C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86E6-32C2-45D7-91F6-0DC73E3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EB2-21A1-40C4-805E-F85DD98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D14F-E03A-4475-9A4E-49C1AA2B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87AC-59CB-4DCB-BB1A-6F79E66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D946-97F9-4E50-BF1F-BAFBA0B1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987F-ECF1-467B-84FB-D5EC078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AA40-282E-466B-908E-7805786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F853-20A9-432D-BADF-2C3F4F7C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B7C1-8988-4A30-830C-5989E70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DF5E-7A10-4066-8923-7503D967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CEFA-7E1A-4F88-AD0A-CE7BD99B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BF699-503C-4E58-9F36-A1E36F1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0C9-7DCF-4566-BA0B-09CBBD6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1D69C-7197-4DF8-8297-B55DE3A3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DFCB7-7697-4666-9471-0425EB4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485D1-0653-4BDC-85ED-4E31C66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ADC3E-8A24-437B-829E-1E87202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BD1EF-CE04-4A95-9EE3-5A3CF12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26B2D-0368-4E91-BC3B-D0E1E0B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6A3B1-317B-4C30-9911-3F6098D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B3C5C-89F5-437C-8837-7E9A629E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6D312-A2DE-49C6-8949-043EFFDD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3D2FD-D47F-46EF-A3E3-08B4E216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2B1-D981-4A83-B24D-93253838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8B1D7-9CCB-4F7B-AFD7-70ADD79D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407C-EDB1-4C14-8EA7-D3008E3D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D837-E180-4640-843A-BF2F7E5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14E0-9743-4DFC-82D6-8ACD257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2FBE-10DB-4E37-B418-FC859F68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3F41E-DF35-49CF-BFBB-BDA36B9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52D9B-55A1-4FCD-AECE-A8ED4700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512B-54BC-49D8-AC9E-B482AC8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0FAF-1001-4DFA-83A0-862C247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A734-453F-4C33-8567-AF8C9FE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942-25FF-4A46-B8B9-09404095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2616-0CA0-4AB5-ABBE-61888ED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0BF0-6335-4555-A497-62E3C63F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A462-9615-45A5-96CB-D6142BA2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7251-00DE-4525-9240-40B6703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D3CD-E968-4C61-A8D4-63A0E47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DE10-1AF4-42BF-83A0-7EF6A9E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9A61-D75B-4805-95A7-0916EE37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E850-A90A-4F1E-94B7-D77255D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4BBE4-290F-44B5-A054-42C798A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D9BB-9466-4533-AD94-62EB398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394-0803-48B6-B7F6-209DACC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5409-4E17-4499-A6CF-76D1BF5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EA902-E28C-4856-9D38-6EBFFF23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627A-7B97-44B7-BE73-1AE7714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C9100-32D4-453D-BC8D-69EFB6C0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FA2FC-3703-43BD-BE2B-B5751707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96F22-4BB3-44E9-B0A3-CE73FA6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6D73-4FBF-4616-92A2-C5A607FF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248AB-0DF5-4D50-86EC-A4884FB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5AF0-7073-4F41-9BFC-84EE6E0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0F9B-3006-466E-9795-C06B156A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AD4-FAF0-44C1-83E7-D83745E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98C6-FFB4-4BC3-9661-FBD14CD8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57AE7-F93C-4266-831D-B62B371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0F23-34A5-4F36-AFB4-AEF93F8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9D20-40DF-4D75-BAAE-7E0D079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74E4-F799-490A-86A9-4A9917E4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1C00B-EC4A-4555-8618-212B4E83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4E114-582F-47B5-B88D-3B1A794F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432E-C3C0-44C0-8262-EA63D9EB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D960B-2AE8-4929-87C1-B7DE84E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611E7-3796-40FC-BE42-9E28C526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574-3BD4-4898-9D05-4E1A42E74F9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43F-62B5-4FDE-832C-C58A8CF77A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8879-88D4-4CF9-B89B-F22153F866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13BC-172D-4BC9-8522-1F7A07D8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F4BB-D21E-4868-B755-8175A9C213E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E6C-591B-4F93-9849-1FF56E6E70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BEC-1B56-44A6-BC33-FB08723F346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AE88-358E-456A-9EEE-0D45D44C3E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6F5-1AC3-48A3-A228-0FA08FBA2F7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8602-7AAF-4F1D-9FB8-850DF33CC7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6CD-FE13-4C5F-B797-68B5C42F50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E200-3090-4827-8CF0-0722573F1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1A7-8DF3-4FD0-83E6-750078ECE9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9237-AD67-47C8-B4C5-D98F21AF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18D-4E86-4132-91D6-18BF6D0533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C365-50A3-409F-8EF4-C77B753A642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0AD-D0A8-49FF-A367-01CEFF90E71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9A7B-B2FA-467B-9471-6FF4B2F94D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3A1B-D684-4A3F-A5F0-E3618D54EF0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92FF-A60B-453A-BA8C-A75C13F73E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C14-6BB1-4662-9C71-EA75FC2CB8C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C5E-ED04-4371-83CC-0AE90E1625F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F8C-A3FC-4E7A-8237-8139A4BCE2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0D0-10EC-4B97-99CA-0722CE66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342-6DDA-4ADE-AF96-03CB41D823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5BF8-B8F5-4C93-BEE0-2EAD3FB7713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0887-9605-494F-8F72-30E3AFB058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1880451-32D9-4D91-815D-D3751C1E9C9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1503-7FC7-4974-B877-429A6E3164D5}" type="slidenum">
              <a:t>3</a:t>
            </a:fld>
          </a:p>
        </p:txBody>
      </p:sp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47626-8B96-4F92-9A96-19101F7B8D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64C5455-1EEF-44FC-807A-650A3CC95DB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605AE-6596-4814-B4A3-54B91003F2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2E5CC35-99F6-4E17-AE14-C23CD099B2B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7D65-1FA2-4EE8-A935-5E4F09F759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9AFC238-1DFA-4BA4-A81E-424BE18E9F0E}" type="datetime1">
              <a:rPr lang="en-US"/>
              <a:t>07/29/26</a:t>
            </a:fld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