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2770550"/>
        <c:axId val="42629230"/>
      </c:barChart>
      <c:catAx>
        <c:axId val="1277055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629230"/>
        <c:crosses val="autoZero"/>
        <c:auto val="1"/>
        <c:lblAlgn val="ctr"/>
        <c:lblOffset val="100"/>
        <c:noMultiLvlLbl val="0"/>
      </c:catAx>
      <c:valAx>
        <c:axId val="4262923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77055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784E7-2301-48E4-B983-01E0E42D9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A6011-665C-4BB2-8183-130C9F9C9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C354A-CDF9-472E-99AF-2CCF8D401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483AB-FD0D-40D5-A52D-F72D64E0A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5B98B-70BC-41BE-ADC4-950BAB267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B3B53-141B-4518-8632-5A8379A7C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662E9-B0AC-4AB9-B9FF-78133A752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07310-D35B-493D-B6AE-FA0D0B209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8C78D-0C40-4B71-929E-13AE3FFAB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D7E39-1B58-48D7-B332-EE2223ED1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1BB0B-689C-4839-8B32-C9474D46A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165DA-A62C-46FF-B963-B722CC772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8B9F2D-90C9-47D5-B6E1-2A87B953162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