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05615"/>
        <c:axId val="11526558"/>
      </c:barChart>
      <c:catAx>
        <c:axId val="36905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6558"/>
        <c:crosses val="autoZero"/>
        <c:auto val="1"/>
        <c:lblAlgn val="ctr"/>
        <c:lblOffset val="100"/>
        <c:noMultiLvlLbl val="0"/>
      </c:catAx>
      <c:valAx>
        <c:axId val="11526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05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225-03AD-49E3-AE4A-4EAA0DC0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8B7-964C-4F72-A909-5D9BBCD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0C1-495F-4EDC-9407-33EFD0E9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828-9E16-47AD-8AC0-4A0921B7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0DE-235E-42A7-B2C5-5EBC4E13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B7D-91F4-49EE-AF7D-045030F3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BF0-306B-481D-BA81-A1B385E8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AF8-CA0E-466F-84F6-6CDB49F9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2DB-E099-4250-A2ED-201CFDC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16D-24A2-49F1-B33A-E31E3338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DDD-EE7F-4DE4-A040-45F29F37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A30-6298-40A7-AD97-3E0EEF9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D9A9A-BACF-4DD2-82D7-E37F4507D6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