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78482"/>
        <c:axId val="43183975"/>
      </c:barChart>
      <c:catAx>
        <c:axId val="99978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83975"/>
        <c:crosses val="autoZero"/>
        <c:auto val="1"/>
        <c:lblAlgn val="ctr"/>
        <c:lblOffset val="100"/>
        <c:noMultiLvlLbl val="0"/>
      </c:catAx>
      <c:valAx>
        <c:axId val="43183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78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860-621F-45E0-97E5-3EA162E5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D8E-6F75-4E70-BADA-4E1106A2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D56-7CC6-4939-AF12-EAAA77C6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99C-BDA4-4E93-B7B1-D0368511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95F-9AC4-4694-A145-CA550210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AF4-53AF-44C3-B910-FEFE23DA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95A-DB9B-4FEA-8671-CB842FAF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C90-E9A5-413E-8BEC-462C5625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37C-E229-4AC3-9EDD-6E19C8BC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14F-0A5F-4971-ACBE-A8D211C7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CC2-9797-45B6-9E9A-6A5A05F2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866-E0D8-4AC8-84B5-387F6BDD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EC970-33E9-4E74-8CF8-ADC37A1B18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