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19303"/>
        <c:axId val="93056350"/>
      </c:barChart>
      <c:catAx>
        <c:axId val="20319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56350"/>
        <c:crosses val="autoZero"/>
        <c:auto val="1"/>
        <c:lblAlgn val="ctr"/>
        <c:lblOffset val="100"/>
        <c:noMultiLvlLbl val="0"/>
      </c:catAx>
      <c:valAx>
        <c:axId val="93056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19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D41-523D-4DB5-9F6B-AECFF52F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4A1-87BE-4A0E-BB97-3733F7E3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58A-058F-4730-848D-8B88F9E2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2C5-9447-4301-B71C-BA99F152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20E-19EF-4FBD-B8D4-C067F3BB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406-4042-442A-BEE1-71541C20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D3A-6B7D-4B3E-88A1-5919455A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1E4-37B5-4AA6-B5B1-5F036F39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FF3-BEDF-434F-AC34-14E1F1D4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D4B-4475-40DA-AADE-5F7215BD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1E8-45B3-4234-93AB-1A058FEA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0B0-6F62-4C56-AF8D-7856E4B6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F08F7-5F61-47A2-8A42-12E6713DBD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