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62699"/>
        <c:axId val="58598496"/>
      </c:barChart>
      <c:catAx>
        <c:axId val="69262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98496"/>
        <c:crosses val="autoZero"/>
        <c:auto val="1"/>
        <c:lblAlgn val="ctr"/>
        <c:lblOffset val="100"/>
        <c:noMultiLvlLbl val="0"/>
      </c:catAx>
      <c:valAx>
        <c:axId val="58598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62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D6F-D71E-4930-B166-F3F6D889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35A-26C6-4870-A72A-2093A1D0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C2C-1A24-4651-915D-D06AAE0C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D62-DAEF-4850-A1A0-749B8D19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951-162F-4DFD-8B20-5B999952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758-4ECF-4023-8F9B-801615EC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3B6-11C4-4D29-8238-D57E40CC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E48-5C9B-44E5-96FE-779F74E6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C99-9EAD-40C7-99D4-C8456216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0A5-1CED-47C5-84BB-6912498C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79A-FFFE-4D38-9024-74FAAD6E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0A4-7775-40D5-AC72-CFEC87D4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038ED-941F-48FA-BCD6-3A4044A9A7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