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609341"/>
        <c:axId val="15785992"/>
      </c:barChart>
      <c:catAx>
        <c:axId val="736093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85992"/>
        <c:crosses val="autoZero"/>
        <c:auto val="1"/>
        <c:lblAlgn val="ctr"/>
        <c:lblOffset val="100"/>
        <c:noMultiLvlLbl val="0"/>
      </c:catAx>
      <c:valAx>
        <c:axId val="157859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093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DEC7-3286-4F3C-9E39-D32765ED2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D957-5270-4ACF-A3C9-3B5F1827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E347-8EDE-4994-8511-5F89D3BE0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CCE3-ABD7-4219-BF40-ABED407CF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10FC-F630-433B-8EDB-87A5895D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F4A7-C8F1-4E11-8438-865DC6A5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D218-0298-47B7-9241-BC66A5FC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9142-FC7A-453E-9643-0DEDE43E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EBE5-F571-497C-B9CE-7FE3CCBE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6796-8BA8-4E1A-A9CC-4518767D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3A63-5176-4CDB-AD83-15BCE69E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0BFE-0714-4D2C-91BD-7A272EE4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5C004-59E1-4434-8F53-4BBFB1BC76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