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5893"/>
        <c:axId val="8862472"/>
      </c:barChart>
      <c:catAx>
        <c:axId val="3135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2472"/>
        <c:crosses val="autoZero"/>
        <c:auto val="1"/>
        <c:lblAlgn val="ctr"/>
        <c:lblOffset val="100"/>
        <c:noMultiLvlLbl val="0"/>
      </c:catAx>
      <c:valAx>
        <c:axId val="8862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5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53C-78B3-41C1-A9A4-7EB39E37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3B1-C23E-475D-AA2F-FD687D02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77D-C07B-4F2A-BF54-7C02609E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2E8-B045-497E-9228-67C2B289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005-A1C5-4F8E-A255-7A059BC5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85E-3400-46FA-8B40-04514B3C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438-D85A-412C-A434-5D740A64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939-2AC6-4626-B26D-F8CDC920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772-C92D-4CC7-B017-923E417C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1A6-39B6-4C11-B936-BD3AE3AA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0D2-8467-45B6-9D3F-C0070824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178-4E73-4271-A26D-092BDA0F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374C8-EAA7-4C22-9212-C88BDAE970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