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06279"/>
        <c:axId val="47421063"/>
      </c:barChart>
      <c:catAx>
        <c:axId val="84906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21063"/>
        <c:crosses val="autoZero"/>
        <c:auto val="1"/>
        <c:lblAlgn val="ctr"/>
        <c:lblOffset val="100"/>
        <c:noMultiLvlLbl val="0"/>
      </c:catAx>
      <c:valAx>
        <c:axId val="47421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06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1AE-0D42-42D9-950A-4F1A528F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C85-14E6-467E-B539-B3C1D29F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0C2-8900-441A-A576-5A4F154A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76A-9ECA-42C6-82FB-757AF485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E6D-38DD-48A1-B247-E786A8DF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5DA-1A47-4038-B16F-08D95EEC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13A-4797-4FFF-AA85-221B9E73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527-BBD9-4D76-9739-0D1E52E5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B8D-E868-46B5-98C9-B2E49D03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082-2FD9-418A-95A0-688CEE9C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D30-6DAD-4579-A61C-26D7A976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BA3-4CDA-403E-98CC-EAB10E4A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A6BC1-4B6E-4D71-B7CF-AA382918A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