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8138"/>
        <c:axId val="49576929"/>
      </c:barChart>
      <c:catAx>
        <c:axId val="9818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76929"/>
        <c:crosses val="autoZero"/>
        <c:auto val="1"/>
        <c:lblAlgn val="ctr"/>
        <c:lblOffset val="100"/>
        <c:noMultiLvlLbl val="0"/>
      </c:catAx>
      <c:valAx>
        <c:axId val="49576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8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602-57D1-45A8-BDB2-634BAA2E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B30-29F3-4A43-B17E-DDD5B5D4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E0D-181C-4D3B-840F-DE68F95C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424-0555-4172-92E2-12B2DE6F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C61-8172-4367-920D-5C9D9882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10E-D093-45B7-86FF-3049580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92F-9164-42A1-8250-A90DA658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A72-6270-4010-A3E6-0B3ECD0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3B2-CAEE-45EF-9610-0FAE3D00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839-A4E1-4B62-B145-00D37D8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B45-2181-4BC7-A4B0-34581D7D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547-4160-4F6B-8BB5-BB6846D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48CD-8BE5-4566-B208-B5E3EE9285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