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21717"/>
        <c:axId val="37223240"/>
      </c:barChart>
      <c:catAx>
        <c:axId val="53321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23240"/>
        <c:crosses val="autoZero"/>
        <c:auto val="1"/>
        <c:lblAlgn val="ctr"/>
        <c:lblOffset val="100"/>
        <c:noMultiLvlLbl val="0"/>
      </c:catAx>
      <c:valAx>
        <c:axId val="37223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21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F4D-3BEF-4AF6-8C17-F62264A4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DC5-090F-4ECC-AAFB-4FE2C86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65A5-CDD0-4D47-9629-7B62D2F3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95C-3F77-43E5-AB75-66D82C6E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C40-1DBA-438D-83E5-C0A8133B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185-42D0-44D6-96B4-98385288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4B7-7F6A-4D61-888F-4F834011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E09-0D99-4317-AFC9-8E2F6FD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53C-699B-42AC-9849-ECEED0E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2FC-BAA9-4E33-86BA-A1C0F8F0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7C2-A137-4319-8029-78B63BF5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C82-5C13-4AF1-AC47-865D46F8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190B7-AC62-48C7-BA89-3EC1D1BED9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