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73983"/>
        <c:axId val="10226679"/>
      </c:barChart>
      <c:catAx>
        <c:axId val="82173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6679"/>
        <c:crosses val="autoZero"/>
        <c:auto val="1"/>
        <c:lblAlgn val="ctr"/>
        <c:lblOffset val="100"/>
        <c:noMultiLvlLbl val="0"/>
      </c:catAx>
      <c:valAx>
        <c:axId val="1022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73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538-93AD-42F1-9BED-34333D57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BCC-353F-4E90-ACF6-C391670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2D8-8133-4BFC-97C2-9FBEF149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93F-CC1D-4F7E-AE5E-D0280E74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4BD-6BBE-4072-B338-2BB9EE49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24A-6520-4032-BDD3-74D3D924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D4E-7DDD-4E57-96D2-A537764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B12-3A36-496A-848B-2050C139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A9F-55D1-4C5E-8FB2-AB34C4C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B09-BE63-402D-BCCD-5CC06BE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3B6-A490-4A0E-8198-7DA746D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120-7F3F-4AE8-9E1D-AE6D3E8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8743D-C873-4987-BD52-115891D78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