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42462"/>
        <c:axId val="59824546"/>
      </c:barChart>
      <c:catAx>
        <c:axId val="14942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24546"/>
        <c:crosses val="autoZero"/>
        <c:auto val="1"/>
        <c:lblAlgn val="ctr"/>
        <c:lblOffset val="100"/>
        <c:noMultiLvlLbl val="0"/>
      </c:catAx>
      <c:valAx>
        <c:axId val="59824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42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521-EA6C-4F2C-96C8-CC39DD14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8F4-B8F5-4BDD-88CB-07C1D558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07F-40B1-4449-8978-F0B20B44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7E6-0EE4-41D2-9DFC-B5A7C3C6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E6E-9146-4711-BF49-97376448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861-E148-4A5A-981C-BA3A5E68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4A3-916C-428C-B99C-13D322E1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4A7-1DA3-4DCC-BA19-4CCE5EE2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335-16A7-40C8-A811-F7059BEB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126-30DD-457A-92B6-AED31DA2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677-1443-46AD-89E6-955695F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25F-C4B3-4D51-9499-F70BE1FF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F8437-DD52-40ED-8379-94E4AAD445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