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54758"/>
        <c:axId val="95929196"/>
      </c:barChart>
      <c:catAx>
        <c:axId val="26954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29196"/>
        <c:crosses val="autoZero"/>
        <c:auto val="1"/>
        <c:lblAlgn val="ctr"/>
        <c:lblOffset val="100"/>
        <c:noMultiLvlLbl val="0"/>
      </c:catAx>
      <c:valAx>
        <c:axId val="95929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54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B7A-AE4D-467C-AF06-9A2487C0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206-2C2B-4CFB-9EEE-1405DB9C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413-BD53-4B8C-9144-E2A09F15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EC1-CFAD-4510-8C25-C87593AA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51E-E0DF-4225-A0F8-51CAE8F4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6DE-5826-4924-8EB3-8A8ADB62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265-21E4-4CF1-865D-3817FF4B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4D0-55A4-4B40-97FD-32761660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8C7-5DF2-4B9D-941B-1497EFF1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6DC-2B3D-43B8-A3D8-D989C955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8F6-109A-4AAB-92A3-22E10D6A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C96-BF73-4B32-B5A3-18705C0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56E8E-976D-4558-B9AC-5C6CB06EE2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