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226888"/>
        <c:axId val="7449536"/>
      </c:barChart>
      <c:catAx>
        <c:axId val="352268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9536"/>
        <c:crosses val="autoZero"/>
        <c:auto val="1"/>
        <c:lblAlgn val="ctr"/>
        <c:lblOffset val="100"/>
        <c:noMultiLvlLbl val="0"/>
      </c:catAx>
      <c:valAx>
        <c:axId val="7449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268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393-0CDA-406B-8F3E-58ACCF1D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4FB-07B8-47AE-99E9-31BA218D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127-0770-4D11-A9AD-044F3536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033-9811-465D-AFB4-3FC5E002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F865-93A1-4B84-A13A-B6FFC197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15F3-93A5-458E-8AC2-A5A6F961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7B8-B24F-4F35-8F6E-B34AE0C9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E98-699F-4B49-BE23-B0733A23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999-5A4C-468E-A736-CFB2B3EF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0C3-ED6C-4D1A-ABA4-9F81C638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6CD6-540A-4D01-9E2F-4BF2EAE5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6F6-C740-4222-A54E-6C2318AD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E02A0-7E34-4ED5-9B19-9DA70F8DE0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