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239139"/>
        <c:axId val="81754956"/>
      </c:barChart>
      <c:catAx>
        <c:axId val="242391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754956"/>
        <c:crosses val="autoZero"/>
        <c:auto val="1"/>
        <c:lblAlgn val="ctr"/>
        <c:lblOffset val="100"/>
        <c:noMultiLvlLbl val="0"/>
      </c:catAx>
      <c:valAx>
        <c:axId val="817549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2391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1FD3-C445-4FDE-94DF-CC472E055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6399-77AD-4D35-BB16-C1BC97C1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7F5C-9191-4DC5-B509-3816674B1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58E1-7433-43BE-A210-775466020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988D-B4FD-46F4-903F-7EF6E5D5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5FBB-DFA1-4C6E-A3C6-2D773990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D4AC-B4C5-40D2-BB83-EDD5CE5D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F737-9BF3-463D-BEB9-88198985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EFE0-88F6-4506-AA17-A6642C72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DD85-8EAD-4999-AF4C-9A6B9DAC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6F35-AFBA-4379-BED2-295FE20A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9D22-918C-462D-9127-BCE104AC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F923BA-3F13-475F-AF7E-9A5C8B5139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