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63787"/>
        <c:axId val="91358885"/>
      </c:barChart>
      <c:catAx>
        <c:axId val="57463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58885"/>
        <c:crosses val="autoZero"/>
        <c:auto val="1"/>
        <c:lblAlgn val="ctr"/>
        <c:lblOffset val="100"/>
        <c:noMultiLvlLbl val="0"/>
      </c:catAx>
      <c:valAx>
        <c:axId val="91358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63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8AB-DB31-4CE8-BE94-4DC5974B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9D80-0BDC-4AB3-B8C9-8C2DB61C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356-5510-4775-B391-C643FF79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E80-6259-4F40-94A1-573D1FC1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CE0-362E-42E8-841D-DA14B764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831-A772-4E6C-9723-7AAC96B5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B8B-1902-4C41-B9B0-B4356814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682-F08F-498C-8DBE-D811CCE2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ACC-D3B2-4B4D-8BB8-D979A9B1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5C8-AD2E-4B38-9DC0-D6F3BD29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D6A-CACF-4505-9488-AC53A0C2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717-01AF-4B57-B234-4258E691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5F210-BF19-4B85-8079-42C8881AB8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