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49108"/>
        <c:axId val="62026298"/>
      </c:barChart>
      <c:catAx>
        <c:axId val="15349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26298"/>
        <c:crosses val="autoZero"/>
        <c:auto val="1"/>
        <c:lblAlgn val="ctr"/>
        <c:lblOffset val="100"/>
        <c:noMultiLvlLbl val="0"/>
      </c:catAx>
      <c:valAx>
        <c:axId val="62026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49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59E-994D-47BA-AD68-B983C8C1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92A-E155-47CE-BE3D-95D768B3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ED0-68F8-4B4E-91CD-E68DE725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2CD-9367-4F34-A456-2263E3E8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C3E-7270-4FB7-832C-CB40E63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070-ADF3-455D-9155-D761C437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346-7E91-4B69-8531-0EA2A696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E8B-38EE-4E6E-A759-04CDB1F1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AC7-3F27-4065-AF8E-7CC0F6F4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27F-509D-44AD-B5CD-3288D52E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EA5-3809-4090-B627-6603B621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550-9D3C-40F4-A52B-617858D2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45A18-8A45-4A9F-A830-CDE185854D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