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22695"/>
        <c:axId val="37271010"/>
      </c:barChart>
      <c:catAx>
        <c:axId val="38422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71010"/>
        <c:crosses val="autoZero"/>
        <c:auto val="1"/>
        <c:lblAlgn val="ctr"/>
        <c:lblOffset val="100"/>
        <c:noMultiLvlLbl val="0"/>
      </c:catAx>
      <c:valAx>
        <c:axId val="37271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22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16F-DC25-48C3-97A4-BBE0E10A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0D7-7D93-4839-B4F8-50485E9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DB4-E6C9-4059-9073-CB313F58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E4F-D0E6-4653-A017-EFB042F0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C99-5474-4822-A9B1-BEB456F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7B1-0C29-47C7-84D1-899C1730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A72-A48F-4F7C-9ADA-3EE47592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CF3-690B-4AD2-A258-50DBAD8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D20-3652-4E97-A26D-91ED02BD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2F6-6D70-4862-884C-04B899E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CBB-574C-44A0-A23F-382D28A2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C39-78EA-45E7-B3A0-98F347E9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56E5D-55B0-4A8C-873D-56B56D5909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