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27233"/>
        <c:axId val="37115548"/>
      </c:barChart>
      <c:catAx>
        <c:axId val="57727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5548"/>
        <c:crosses val="autoZero"/>
        <c:auto val="1"/>
        <c:lblAlgn val="ctr"/>
        <c:lblOffset val="100"/>
        <c:noMultiLvlLbl val="0"/>
      </c:catAx>
      <c:valAx>
        <c:axId val="37115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27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590-E350-4B90-B185-07FF92CD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1A9-8EC2-4139-AEA8-F7778C7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290-C741-4011-BA10-F11829B7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E05-C360-492C-BA59-C2B55505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5B3-90AE-4E43-80B7-C8406944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56C-4752-4AAE-9E16-9BB77EB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280-E224-4315-8213-476ECEB3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EA8-0948-46AA-9872-F98609D3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F37-32A7-4275-B1C8-1A46971D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E23-A8D9-4CC8-A443-8E02548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8EE-7000-4A8B-BE38-CD81FA6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169-4227-432C-A9FF-E2A0162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0AAF3-52A5-4E4B-B0E9-F95CF422E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