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119632"/>
        <c:axId val="99126809"/>
      </c:barChart>
      <c:catAx>
        <c:axId val="951196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126809"/>
        <c:crosses val="autoZero"/>
        <c:auto val="1"/>
        <c:lblAlgn val="ctr"/>
        <c:lblOffset val="100"/>
        <c:noMultiLvlLbl val="0"/>
      </c:catAx>
      <c:valAx>
        <c:axId val="991268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1196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08077-62A3-4D00-AB17-2F6F42891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2BCD-4CB9-438B-B971-614B6D7C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332D-5977-4F48-92BB-D923DD4A4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0FF5-A019-46ED-B33E-8FB175391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8D56-3296-4378-B29B-0F0BB54DD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D4651-AF9C-4681-A91E-6A973E739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9435-A10A-47CC-B337-18B369584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13B3-8131-4386-BB04-478E51D23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228E-787F-453A-A468-0C34D9205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3B8B-DDC6-4DA9-91F7-4BE3C5F06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AF72E-E6C7-4046-898D-643961D3E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34A7-953A-458F-984D-3F93A8666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384370-AB1C-4D9C-9475-4CFA8BD594B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