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91993"/>
        <c:axId val="55240251"/>
      </c:barChart>
      <c:catAx>
        <c:axId val="20891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0251"/>
        <c:crosses val="autoZero"/>
        <c:auto val="1"/>
        <c:lblAlgn val="ctr"/>
        <c:lblOffset val="100"/>
        <c:noMultiLvlLbl val="0"/>
      </c:catAx>
      <c:valAx>
        <c:axId val="55240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91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CA7-CB15-43E2-908E-F46D39D1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88B-E6FE-4672-8464-4384533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0A6-E0CD-46EA-B14B-8F9BBB26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64-7A19-4344-BF41-BC995F6D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A9D-C443-4345-B324-FD05E23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5C4-7886-44B4-8F29-DEB4952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464-644B-40E1-9EE2-A8DCC27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0DC-A1F9-47F2-B9AD-FB6C085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2F5-5F07-4495-9CCF-5859C340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FC4-7065-4453-8E48-4A52716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083-6CE2-4601-823B-5743968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A15-6755-4BA8-B6BC-ACEAD10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D42FF-F4C7-4E8D-8482-D7438FF0E1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