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26426"/>
        <c:axId val="77938324"/>
      </c:barChart>
      <c:catAx>
        <c:axId val="89326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38324"/>
        <c:crosses val="autoZero"/>
        <c:auto val="1"/>
        <c:lblAlgn val="ctr"/>
        <c:lblOffset val="100"/>
        <c:noMultiLvlLbl val="0"/>
      </c:catAx>
      <c:valAx>
        <c:axId val="77938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6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929-58EE-451C-B2BE-39F71922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524-8137-496A-95E8-0F2410A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04B-FE69-4817-81B9-40ABE7C0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AED-3664-4C4F-8FA6-888CAE57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320-7D55-4ACA-AFF5-330489A9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5B6-6832-4899-8474-7E7561A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3B4-BE3A-4A40-80F9-EC94BD6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D68-81DE-436E-AD88-5553649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A61-5FFA-4457-90AC-17E24048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D18-3EC1-4D67-ABF4-1319B3A1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CBE-597A-40A1-8325-6E549AA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CB6-9E4A-47AE-B647-CDF228D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6FCB2-E60D-41B3-93F7-15EF5231C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