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512196"/>
        <c:axId val="27556134"/>
      </c:barChart>
      <c:catAx>
        <c:axId val="235121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56134"/>
        <c:crosses val="autoZero"/>
        <c:auto val="1"/>
        <c:lblAlgn val="ctr"/>
        <c:lblOffset val="100"/>
        <c:noMultiLvlLbl val="0"/>
      </c:catAx>
      <c:valAx>
        <c:axId val="275561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121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AEC-2269-4D8F-92CC-724622DB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CCCC-F825-4F22-A2FA-2DB3AA2A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749C-A719-4DD9-96A4-E9C70389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A270-0E32-4C7C-B039-C6BD182E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4AE-47C9-442B-B188-E0FB0932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98B-B38E-4C55-89B1-B33C3E5B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224-A541-454C-BA3D-490B921C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C59-A014-469B-9A3B-1381BE5B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AC2-0BA8-4F75-8028-0E352D2E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909-4483-478B-BDFD-7F4D5C6D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581-7144-46B3-92E4-3B02451C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475D-BBD5-4B97-ADCA-EE95B43F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CDCB5-3499-411C-8A49-FCADBA514E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