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63147"/>
        <c:axId val="70588021"/>
      </c:barChart>
      <c:catAx>
        <c:axId val="6956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88021"/>
        <c:crosses val="autoZero"/>
        <c:auto val="1"/>
        <c:lblAlgn val="ctr"/>
        <c:lblOffset val="100"/>
        <c:noMultiLvlLbl val="0"/>
      </c:catAx>
      <c:valAx>
        <c:axId val="70588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6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90B-C20B-419E-981A-774083A6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447-3AF0-45C9-BA49-8F344A1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E50-5289-472F-875A-15425EBA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BBB-4613-40DC-9F75-9DCABB38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4B1-EA09-431D-8F2D-A06DA45B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B82-CBA6-4B7E-A992-465BF0D5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3EB-568D-4416-BAFF-3FFEB71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091-138D-4614-B151-F4306D7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30C-8A6A-4091-B847-B05645A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460-2CC1-450D-96BF-E5FB30D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706-F2BC-4A60-A18E-9DCFC97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AF6-7384-40B1-A945-0A1AD9B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B4C00-551F-4993-A19F-CC48F29B1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