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32401"/>
        <c:axId val="22088185"/>
      </c:barChart>
      <c:catAx>
        <c:axId val="67532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8185"/>
        <c:crosses val="autoZero"/>
        <c:auto val="1"/>
        <c:lblAlgn val="ctr"/>
        <c:lblOffset val="100"/>
        <c:noMultiLvlLbl val="0"/>
      </c:catAx>
      <c:valAx>
        <c:axId val="22088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2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56E-DDDF-4A76-A741-75FF8D15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BC1-E6B1-47C8-80E9-400AB44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C7F-68E9-4D3F-A806-B32868F3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DD5-C52F-460A-881C-7346AD32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1F2-7FA1-4B66-BCDB-CAE0F5F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498-5642-4253-9538-621708F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93C-B616-40E1-958F-7EBA28BB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45D-EBE9-4291-A6F4-57C320E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36D-DE0E-4980-90E7-AA51BC4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433-553F-4D19-95F2-37AFCED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BF6-CE43-46C2-86E3-F4E8B42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502-FFAD-47CA-85F4-C91A270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FE4C-AA90-45A0-A0C3-A115B84B7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