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8736"/>
        <c:axId val="8027561"/>
      </c:barChart>
      <c:catAx>
        <c:axId val="2938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561"/>
        <c:crosses val="autoZero"/>
        <c:auto val="1"/>
        <c:lblAlgn val="ctr"/>
        <c:lblOffset val="100"/>
        <c:noMultiLvlLbl val="0"/>
      </c:catAx>
      <c:valAx>
        <c:axId val="8027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8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EE2-B59C-4882-B1AF-8541A91D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929-6A24-4159-A754-70EE825A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0BD-358B-432D-9631-332F3C6D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51E-5940-4423-B720-B541631F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960-891E-455F-812B-8D3063D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E30-9148-4237-A756-E1C58B33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CF4-4AC0-4887-B23A-55403C64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84F-7AF9-4C5F-AAED-5E2B08C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9B4-C56D-4E2C-B4E7-B5F76A14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D02-5F50-4C7E-9357-94F957A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069-57B1-47D2-BCCB-A393F5F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189-3AC0-496D-848B-503F4459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D65A6-EE4C-4E77-AE84-962A7ED347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