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15824"/>
        <c:axId val="95213513"/>
      </c:barChart>
      <c:catAx>
        <c:axId val="37115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13513"/>
        <c:crosses val="autoZero"/>
        <c:auto val="1"/>
        <c:lblAlgn val="ctr"/>
        <c:lblOffset val="100"/>
        <c:noMultiLvlLbl val="0"/>
      </c:catAx>
      <c:valAx>
        <c:axId val="95213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5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5C3-9AFC-41D5-A97F-CC19B725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67F-0208-4C32-87CC-EE642B2D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F8E-3F66-4779-9E68-9F410171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9E2-70C4-4126-A65B-A1AD1DA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CA2-E426-4BF0-B145-FA0B0ADF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2BB-02D8-42A9-8358-9A42B29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87E-432C-426A-A3F2-ACDABBD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87B-DA02-4F47-8408-59732DC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0CE-E702-4B3E-B23B-BEFD832F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B5F-8E13-4742-A858-F6C6C05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6A6-BCD8-4DEF-855C-DFC47E7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44C-FDC0-4262-82E6-FFE628E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4BEE2-CF25-487F-91D9-D7A0440EB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