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38114"/>
        <c:axId val="77584401"/>
      </c:barChart>
      <c:catAx>
        <c:axId val="79238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84401"/>
        <c:crosses val="autoZero"/>
        <c:auto val="1"/>
        <c:lblAlgn val="ctr"/>
        <c:lblOffset val="100"/>
        <c:noMultiLvlLbl val="0"/>
      </c:catAx>
      <c:valAx>
        <c:axId val="77584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38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FD2-AECF-4C03-92DB-C1DFB5ED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9E5-92B9-47CA-8E8F-53BF5E39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020-4D18-42D5-A603-D9486095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879-8B74-4CB1-8ED2-C902D401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C20-C334-4416-AE37-1B009A30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810-B0D7-4380-A7BA-23ED3FF9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FE1-BFCD-458C-99A9-EFB97050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3AA-E269-4B1A-9601-405366C5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7F3-F052-48A3-93E9-86173F2E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05A-2C8C-4CFA-A407-FB09E88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7A6-F741-4418-9275-78381FC1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148-8422-40EB-A3FA-85468F30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99632-A5F2-4AEC-98E3-253B651A29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