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18215"/>
        <c:axId val="82051408"/>
      </c:barChart>
      <c:catAx>
        <c:axId val="21918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51408"/>
        <c:crosses val="autoZero"/>
        <c:auto val="1"/>
        <c:lblAlgn val="ctr"/>
        <c:lblOffset val="100"/>
        <c:noMultiLvlLbl val="0"/>
      </c:catAx>
      <c:valAx>
        <c:axId val="82051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18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8B0-DA00-433A-83B1-EE00CE97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936-EF9B-4728-A63E-D5AFD877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C6F-A118-429B-9AE9-5C7C5A95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FFE-A386-4BC2-9CAD-8C9868EE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77C-493F-4D7A-9A7F-48738FB4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D63-1723-499F-AA55-FDF0B5C4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52E-59BF-4121-A7B6-892C5EEF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AE3-D73B-46B9-AB83-4E79FFC7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2AA-487B-48FB-977F-676F7BC8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6CD-35A5-4E07-89C5-7BB051D5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F9D-1D0A-4C5F-8B48-DBC0EE9C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B95-8F0E-44C0-8866-A2AFB45E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ECC99-A0A6-44A2-B242-36E62B317B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